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41C-A87F-40BC-BF02-38E6784D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DCD-D7A7-48F2-AF91-DFDCC547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1AB-423E-4AB5-98F0-B51B7D68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the filter types to 2 – premium an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ypes – scented, corrugated, rice paper, beetle leaf etc. – 3 typ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Blend – treated, flavored, non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818-86AD-4664-A303-BF3E8446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7AD3-FEAB-4FF0-AA57-C2B759CF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D07-9577-4194-8B13-7DBCFD77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E08A-CF5A-4E37-9399-95198873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8F18-F9FD-4C3F-A095-92D5145F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B13-68D6-4060-A76C-F24DB7FD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7163-B08B-4D7E-8088-87AF3AE1C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AFD-3A7C-4B1D-A902-096FC33B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7DF-01ED-4208-BCBB-72604CE8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A2C6-B04B-4CA1-8B04-111527A7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E01D-A23A-408C-957F-1F464E4D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tory conditions like ephizema, asthm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E3A-F298-4005-878A-714A994E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, available, addi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ous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ing can offset parkinsons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735F-52E8-487F-BBB1-32A6257B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203F-627F-4503-9A92-6B6DAD8C8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26C3-AF29-4071-9B25-74F7E1524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FAAB-3D5A-4F23-AA23-D98FE6FD7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0554-16B8-49D8-9AB9-D9A5F3F8E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5F05-A7C2-4003-A9D4-B0F858F6A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6036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9800" y="256536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7128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6036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9800" y="2829240"/>
            <a:ext cx="198936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E014-B3EC-40A3-99CF-AD36D44A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2BB9-700F-4CB4-A4C0-8E21723C9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361A-4798-4BD4-B641-A198F756A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280" y="1773360"/>
            <a:ext cx="617220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840A-6C5F-4CEB-AFFD-814AB2E13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61C3-8D70-4947-B271-33C824A7F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7480" y="282924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D607-83C2-4F9D-946B-CE9B58F5B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12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37480" y="2565360"/>
            <a:ext cx="301500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1280" y="2829240"/>
            <a:ext cx="6178680" cy="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FD66-3AEF-4BAA-8508-82897E191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52a51"/>
              </a:buClr>
              <a:buSzPct val="11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252a5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252a5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1640" y="6641640"/>
            <a:ext cx="360360" cy="1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BE1-4BE3-4DD8-9A31-8DA56E331F54}" type="slidenum">
              <a:rPr b="0" lang="en-US" sz="9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00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4664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c4664"/>
                </a:solidFill>
                <a:latin typeface="Garamond"/>
              </a:rPr>
              <a:t>Click to edit the outline text format</a:t>
            </a:r>
            <a:endParaRPr b="1" lang="en-US" sz="3400" spc="-1" strike="noStrike">
              <a:solidFill>
                <a:srgbClr val="3c4664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252a51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1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252a5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51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252a51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252a51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252a54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a51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252a5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YU Stern School of Busines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cision Models – Fall 2006</a:t>
            </a:r>
            <a:br>
              <a:rPr sz="20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deling decisions in Smoking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3152880"/>
            <a:ext cx="6178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ichelle Rizk Canessa, Pragati Imam,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Mayank Toshniwal, Vinod Addidam 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12/06/06</a:t>
            </a: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c46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Managerial Problem definition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960" y="1582560"/>
            <a:ext cx="8992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cigarette brand is unique and so are the preferences of smoker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have 3 decisions that needs help: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Harsh is an international consultant , a smoking enthusiast (addict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ravels extensively, and is faced with the decision of which br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tastes, smells and feels (cool!) like the brand he smokes in U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r. Juran is an insurance agent and also an environmentalist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is company covers Mr. Harsh’s health and he wants to know how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uch effect smoking can have on his life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buClr>
                <a:srgbClr val="252a54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s. Pragati runs a tobacco firm, looking at expanding internationall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wants to know the competitive landscap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ased on the data provided by Department of Health &amp; Hygiene and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voluntary declarations of cigarette composition by various tobacco firms,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we need to build a model that helps simplify the lives of all 3 abov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entioned case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88B1-23C5-45E3-8C2F-CC4A3A88F3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The Universal Model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82520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Real time data provided by Department of Heath &amp; Hygiene is accurate – effect of each chemical,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For every location, top 10 brands have been selected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Out of the 599 additives (variables), we selected the 45 most notorious. 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FE4A-E146-4C88-86F0-F6E015A226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Objective Fun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Minimize sum of the squares of the difference between the characteristics of the favorite brand and the ideal brand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52a51"/>
                </a:solidFill>
                <a:latin typeface="Arial Narrow"/>
              </a:rPr>
              <a:t>=SUMXMY2(C29:AX29;C32:AX32)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93432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A30D-316D-40E9-993D-38F3CFD18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Formulation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Non-linear Multiple Optimization Model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18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Decision Variable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Location (4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rand : Constituent Chemicals (45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Constraints: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Selection set dynamically generated and constrained to only the top 10 brands in the location (10)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Integer non-negative representation used for brands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9480" y="5122800"/>
            <a:ext cx="7696440" cy="9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D7EA-B6A1-44D6-B955-93C893933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 Model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7720" y="24526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fe Expectancy Simulation Model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38480" y="334476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05320" y="48909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52a54"/>
                </a:solidFill>
                <a:latin typeface="Arial"/>
              </a:rPr>
              <a:t>Time is running out!</a:t>
            </a:r>
            <a:endParaRPr b="0" lang="en-US" sz="18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8DE7-655A-4507-90D0-101C8FC988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Simulation -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4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601956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872B-D5B8-43A6-87DF-677C6715B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Assumptions – </a:t>
            </a:r>
            <a:br>
              <a:rPr sz="3200"/>
            </a:br>
            <a:r>
              <a:rPr b="0" lang="en-US" sz="20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endParaRPr b="0" lang="en-US" sz="20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28560" y="1676520"/>
            <a:ext cx="3791160" cy="2171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409920" cy="211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5257800" cy="23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003D-316E-4C6D-A052-AE4E2D242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32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onclus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5029200" cy="320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76520" y="5181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a 18% probability that your life will be reduced by 1/3</a:t>
            </a:r>
            <a:r>
              <a:rPr b="0" i="1" lang="en-US" sz="2200" spc="-1" strike="noStrike" baseline="30000">
                <a:solidFill>
                  <a:srgbClr val="252a54"/>
                </a:solidFill>
                <a:latin typeface="Arial"/>
              </a:rPr>
              <a:t>rd</a:t>
            </a: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 or more.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06C4-8F39-4247-BFD4-2E8D0960E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Agenda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085480"/>
            <a:ext cx="7848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Introduc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Project Descrip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The Universal Model 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Demonstrat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0880" y="1981080"/>
            <a:ext cx="609840" cy="470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440" y="2476440"/>
            <a:ext cx="609480" cy="46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19040" y="2997360"/>
            <a:ext cx="609840" cy="46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20560" y="36576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20560" y="41911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0FBB-7BA6-45D6-9FAA-911CB0796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Results – </a:t>
            </a:r>
            <a:br>
              <a:rPr sz="3200"/>
            </a:br>
            <a:r>
              <a:rPr b="0" lang="en-US" sz="2400" spc="-1" strike="noStrike">
                <a:solidFill>
                  <a:srgbClr val="252a51"/>
                </a:solidFill>
                <a:latin typeface="Book Antiqua"/>
              </a:rPr>
              <a:t>Life Expectancy Simulation</a:t>
            </a: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5181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52a54"/>
                </a:solidFill>
                <a:latin typeface="Arial"/>
              </a:rPr>
              <a:t>There is only a 13% probability that you will pass the average expected life of a normal non-smoking healthy human being (boring!)</a:t>
            </a:r>
            <a:endParaRPr b="0" lang="en-US" sz="22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6D2E-8EA9-4FEB-AF7B-B13B0AD472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Every man makes his own decisions.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Wish he used our model!!!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But, another disclaim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More accurate data results in more accurate results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Genetic predisposition and other side eff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sychological aspects can be factored i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Pricing, if relevant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Demographic and Gender bias can be included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lvl="1" marL="698400" indent="-268560">
              <a:spcBef>
                <a:spcPts val="499"/>
              </a:spcBef>
              <a:buClr>
                <a:srgbClr val="252a51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a51"/>
                </a:solidFill>
                <a:latin typeface="Arial Narrow"/>
              </a:rPr>
              <a:t>Useful for any product: prescriptions, financial services, coffee , etc…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4339-BF36-493B-8065-F06E0D56BD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0720" y="274320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Thank you!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1792440" cy="2057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Introduction</a:t>
            </a:r>
            <a:endParaRPr b="0" lang="en-US" sz="40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6858000" y="762120"/>
            <a:ext cx="129528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Disclaim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618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not advocates of smoking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Nor do we represent a social organization despising  smokers/tobacco firms and working towards eradication of cigarettes from the face of earth!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52a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a51"/>
                </a:solidFill>
                <a:latin typeface="Arial Narrow"/>
              </a:rPr>
              <a:t>We are Stern students of Prof. Juran – aiding ALL the confused decision makers - individual smokers or managers - in making their decisions with the help of our model.</a:t>
            </a: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61928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1418-EC7C-4016-8B70-35BA3A723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124080" y="2320920"/>
            <a:ext cx="2743200" cy="25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61520" y="4935960"/>
            <a:ext cx="452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obacco rod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Cigarette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Filtration Material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Tipping paper with adhesive seam</a:t>
            </a:r>
            <a:br>
              <a:rPr sz="2000"/>
            </a:br>
            <a:r>
              <a:rPr b="1" lang="en-US" sz="2000" spc="-1" strike="noStrike">
                <a:solidFill>
                  <a:srgbClr val="252a54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Plug wrap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2840" y="1479600"/>
            <a:ext cx="659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A cigarette is a product manufactured out of cured and finely cut tobacco leaves,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which are rolled or stuffed into a paper-wrapped cylinder 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a54"/>
                </a:solidFill>
                <a:latin typeface="Arial"/>
              </a:rPr>
              <a:t>(generally less than 120 mm in length and 10 mm in diameter)</a:t>
            </a:r>
            <a:endParaRPr b="0" lang="en-US" sz="14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2309-B76A-4037-9E34-C1D27DA2A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The Science of Cigarettes (Contd.)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91120" y="615312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5200" y="1447920"/>
            <a:ext cx="7965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igarettes have 599 additives in them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hemicals ranging from Carcinogens (ex. benzo(a)pyrene), lethal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ydrogen cyanide till sweet lavender oil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Each ingredient has a proven side effect on the metabolic,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nervous and immune systems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Most popular and addictive additive is Nicotine! (Duh?)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eave alone smoking, eating cigarettes itself is harmful for th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body – fire adds more diversity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Carbon-Monoxide (tar) is the most harmful ingredient of cigarette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smoke that binds to hemoglobin in red blood cells, preventing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ffected cells from carrying a full load of oxygen.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buClr>
                <a:srgbClr val="252a5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Few diseases caused by cigarettes: cancer (in 8 different plausible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locations in the body), cataracts, chronic lung diseases, coronary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heart and cardiovascular diseases, as well as reproductive effects 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52a54"/>
                </a:solidFill>
                <a:latin typeface="Arial"/>
              </a:rPr>
              <a:t>and sudden infant death syndrome.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0a01"/>
                </a:solidFill>
                <a:latin typeface="Arial"/>
              </a:rPr>
              <a:t>That’s not all!!!</a:t>
            </a:r>
            <a:endParaRPr b="0" lang="en-US" sz="2000" spc="-1" strike="noStrike">
              <a:solidFill>
                <a:srgbClr val="252a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EF7F-33EE-4550-9C50-661FDE1F2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Psychology of a smoker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68000"/>
            <a:ext cx="76183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people start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ol” factor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duction effect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Why do they continue smoking?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ddiction (Nicotine abstinence syndrome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nditional attributes – Stress, anxiety, boredom etc.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ssociation – Food, drink, fun and games, and even ***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a01"/>
                </a:solidFill>
                <a:latin typeface="Arial Narrow"/>
              </a:rPr>
              <a:t>Advanced smoker: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tas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smell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cigarette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Loyalty (Brand)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6ABF-F430-42D0-8857-6FEFD2EB2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a51"/>
                </a:solidFill>
                <a:latin typeface="Book Antiqua"/>
              </a:rPr>
              <a:t>Brand nuances – Tobacco industry</a:t>
            </a:r>
            <a:endParaRPr b="0" lang="en-US" sz="3200" spc="-1" strike="noStrike">
              <a:solidFill>
                <a:srgbClr val="252a51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5 major players in the tobacco industry</a:t>
            </a:r>
            <a:endParaRPr b="0" lang="en-US" sz="24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Philip Morris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American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Brown and Williamson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Liggett Group, Inc.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Narrow"/>
              </a:rPr>
              <a:t>R.J. Reynolds Tobacco Company</a:t>
            </a: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a51"/>
              </a:solidFill>
              <a:latin typeface="Arial Narrow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86516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28600" y="3048120"/>
            <a:ext cx="1676520" cy="1353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rcRect l="6782" t="4354" r="-1819" b="4354"/>
          <a:stretch/>
        </p:blipFill>
        <p:spPr>
          <a:xfrm>
            <a:off x="457200" y="47242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481720" y="4267080"/>
            <a:ext cx="1071360" cy="221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6892920" y="4267080"/>
            <a:ext cx="133668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276720" y="42670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38098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a51"/>
                </a:solidFill>
                <a:latin typeface="Arial Narrow"/>
              </a:rPr>
              <a:t>And the brands ….</a:t>
            </a:r>
            <a:endParaRPr b="0" lang="en-US" sz="2400" spc="-1" strike="noStrike">
              <a:solidFill>
                <a:srgbClr val="252a54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1828800" y="4495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9E6F-2EC1-4398-82B3-EF1E543DAD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061720"/>
            <a:ext cx="617220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Project Description</a:t>
            </a:r>
            <a:endParaRPr b="0" lang="en-US" sz="3600" spc="-1" strike="noStrike">
              <a:solidFill>
                <a:srgbClr val="3c4664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26002" t="8979" r="6009" b="0"/>
          <a:stretch/>
        </p:blipFill>
        <p:spPr>
          <a:xfrm>
            <a:off x="7696080" y="152280"/>
            <a:ext cx="129564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23:42Z</dcterms:created>
  <dc:creator>Young Ban</dc:creator>
  <dc:description/>
  <dc:language>en-US</dc:language>
  <cp:lastModifiedBy>Michelle Rizk Canessa</cp:lastModifiedBy>
  <dcterms:modified xsi:type="dcterms:W3CDTF">2006-12-06T03:41:55Z</dcterms:modified>
  <cp:revision>86</cp:revision>
  <dc:subject/>
  <dc:title>NYU Stern School of Business Fall 2006  Relevant Investment Strategies</dc:title>
</cp:coreProperties>
</file>